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324E-86DB-4BDC-A014-7392CF522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0E62-9804-4831-930E-27097D561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67C-6AB4-4270-BE41-ABE4A2A7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AE9-F666-45B6-B14A-38C803C9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E2C-9EE8-4ADB-93B2-20624EF6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8F15-B0B5-4477-AB02-321BB51C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6C3-7C1F-46D5-855D-DB1E086D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F4C-A7A1-4C70-B36C-2D1787A9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4D5-E672-4ADB-94A2-446A2F09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5B7-A48D-434F-B647-B4635E2D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538-37B3-4D3C-A9D5-FBD1C0D4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C27-934F-4E0A-9EF2-0C443FC3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24D-C991-4DE7-BB7A-E4E0767D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574-9610-4AF4-8955-73D0F21A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C7B9-A29A-49D1-9E10-A8E13E82FD0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19640" y="2565000"/>
            <a:ext cx="5256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KRONİK PELVİK AĞRIYA “PSİKİYATRİK” YAKLAŞ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2 (1)"/>
          <p:cNvPicPr/>
          <p:nvPr/>
        </p:nvPicPr>
        <p:blipFill>
          <a:blip r:embed="rId1"/>
          <a:srcRect l="2743" t="0" r="5903" b="34494"/>
          <a:stretch/>
        </p:blipFill>
        <p:spPr>
          <a:xfrm>
            <a:off x="0" y="0"/>
            <a:ext cx="914400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995640" y="5516640"/>
            <a:ext cx="496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İSED: 0.555.274 41 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800000"/>
                </a:solidFill>
                <a:latin typeface="Arial"/>
              </a:rPr>
              <a:t>www.cemkece.com.t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EM KEÇE: 0.533.234 72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0" descr="pelvik_bozulmasi"/>
          <p:cNvPicPr/>
          <p:nvPr/>
        </p:nvPicPr>
        <p:blipFill>
          <a:blip r:embed="rId2"/>
          <a:srcRect l="16573" t="43182" r="12622" b="0"/>
          <a:stretch/>
        </p:blipFill>
        <p:spPr>
          <a:xfrm>
            <a:off x="0" y="2565360"/>
            <a:ext cx="4500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NEDEN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nın birçok organik nedeni olsa 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irçok kadına kesin tanı konulamamışt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 nedenle psikolojik ve psikiyatrik değerlendirme çok önemli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tta yatan fiziksel bir nedenin saptanamadığı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diyopatik kronik pelvik ağr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 psikiyatrik sınıflamalar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omatoform bozukluk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başlığı altında ele alın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lı hastalar içerisinde en büyük grubu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omatoform bozukluk tanıs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konulan hastalar oluşturmakta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hastalar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işlev bozuklukları, mide-barsak yakınmaları, baş ağrıları, oligomenore, miksiyon bozuklukları ve premenstrüel şikayetle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gibi ek birçok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somatik semptomlar ve maskeli depresyon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lunabil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NEDEN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staların birçoğun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sosyal etmenle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dikkati çek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ok etmenli bir zeminde ortaya çıkan kronik pelvik ağrıya neden olan psikolojik ve psikiyatrik durumlar şunlar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İKOLOJİ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İLİNÇDIŞI KEFARET ÖDEME ARZUSU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tanç, suçluluk ve günahkârlık duygularına yol açan travmatik yaşantı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Çocuklukta cinsel ve fiziksel istismar öyküs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istismara ve tecavüze uğ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Çocuklukta ve ergenlik döneminde ensestiyöz ve homoseksüel deneyimler yaşama ve cinsel oyun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ronik somatizasyon ve hist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ldatma ve aldatı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işlev bozukluk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yönelim ve cinsel kimlik karmaş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NEDEN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İKİYATRİ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epresyon – maskeli depresy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laç çekilme sendrom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lık hastalığı (hipokondriyaz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işilik bozukluk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lkol ve madde kötüye kullanım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ksiyete bozukluk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yku bozukluk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avranış bozukluklar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NEDEN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İNSEL TACİ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kimlerin kronik pelvik ağrı şikâyeti olan hastalar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acizi sorgulaması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vsiye edil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ncak çok erken dönemlerde gerçekleşmişse anımsamayacağından hekime bildiremeyeceği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irçok taciz mağdurunun ise hatırlasa bile hekimle bir güven ilişkisi gelişmedikçe bunu anlatmayacağı hatırda tutulmalıd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durumun hekime iletildiği durumlarda, hekimler bu bilgi ile ne yapacaklarını çoğu zaman bileme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noktada ilk önc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acizin devam edip etmediğinin açığa kavuşturulmas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gerek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nın geçmişinde yaşadığı cinsel taciz ile bugünkü ağrı şikâyeti arasında bir bağ kurmak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her zaman mümkün olmayabilir ya da bu uzun bir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erapi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y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terapi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ürecini gerektirebi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KRONİK PELVİK AĞRI ile ilgili görsel sonuc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cc0000"/>
                </a:solidFill>
                <a:latin typeface="Arial"/>
              </a:rPr>
              <a:t>PSİKOLOJİK VE PSİKİYATRİK DEĞERLENDİRME VE CİNSEL ÖYKÜ 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sikolojik değerlendirm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jineseksolog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erapist, psikiyatrist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eya hastanın bakımı üstlenen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ile hekim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tarafından yapıla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oğun psikolojik değerlendirme ve tedaviden fayda görecek kadınları tanımlamada aşağıdaki sorular sorularak hastalar saptanabili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ğrınız çalışma, ilişkiler, uyku, cinsel aktivite gibi fonksiyonlarınızı nasıl etkiliy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ğrı duygu durumunuzu nasıl etkiliyor? Huzursuzluk veya depresyon, anksiyete veya gerginlik hissediyor musunuz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Hayatınızda ne kadar stres yaşıyorsunuz? Az, orta, yüksek miktarda mı? Eğer yüksek miktarda ise bunun ağrı ile ilişkisi var mı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cc0000"/>
                </a:solidFill>
                <a:latin typeface="Arial"/>
              </a:rPr>
              <a:t>PSİKOLOJİK VE PSİKİYATRİK DEĞERLENDİRME VE CİNSEL ÖYKÜ 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Hiç cinsel, duygusal veya fiziksel istismara maruz kaldınız mı? Şu an istismara maruz kalıyor musunuz? Sizin ve çocuklarınız güvenliğinden endişe duyuyor musunuz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ğrı, istismar veya stres ile başa çıkmanızda size kim yardımcı oluy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ğrı ile başa çıkma yetenekleri, depresyon veya stres yönetimiyle, çift terapisi, cinsel terapi veya çözümlenmemiş istismar ile ilgili danışmanlık almakla ilgilenir misiniz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KRONİK PELVİK AĞRI ile ilgili görsel sonuc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Arial"/>
              </a:rPr>
              <a:t>HASTA – HEKİM İLİŞKİSİNE DAİR ZORLU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 şikâyeti olan hastalar çoğu zaman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zor” hastalard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; zira fiziksel bir şikâyet nedeniyle hekime başvurmuşlar, ancak yapılan kapsamlı tetkik ve incelemelerde ağrıyı açıklayacak belirli bir fiziksel neden bulunamamışt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zorluk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ekim-hasta ilişkisinde çoğu zaman çatışmalara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nın tedaviyi erken bırakmasına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ekim değiştirmesin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e bazen d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nın semptomlarının alevlenmesin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neden ola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ronik yakınmalar hekimleri sinirlendiri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ünkü, tedaviden iyi sonuç almak hekime uzun ve pahalı bir eğitimin boşa gitmediğini hissettir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Arial"/>
              </a:rPr>
              <a:t>HASTA – HEKİM İLİŞKİSİNE DAİR ZORLU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yomedikal modelle eğitilmiş hekimlerin eğitimi hastanın davranış, duygu ve kişilerarası ilişkilerini tanımayı içermediğinden, hekimler iyileşemeyen ya da iyileşmeyecek hastayı genellikle kolayca anlayamazlar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 hastalara tahammül gösteremez ve bu nedenle tedavilerinde başarısız olurla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ekimlerin tepkileri hayal kırıklığı, öfke ve hatta öç alma şeklinde olabili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bii bu durum, sadec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nın cezayı hak ettiği inancın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pekiştirmeye yar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vaşça gelişmesi beklenen hasta-hekim işbirliği yerine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rşılıklı bir güvensizlik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geliş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 iki taraf için de doyurucu olmayan bir ilişki kurul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Arial"/>
              </a:rPr>
              <a:t>11. ENDOAKADEMİ 20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ndometriozis ve Adenomyozis Derneğ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Yönetim Kurulu Başkanı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Dr. Taner Usta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hocama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r. Ahmet KALE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ahsım v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Sağlık Enstitüsü Derneği (CİSED) Ailes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dına teşekkürlerimi ve şükranlarımı sunarı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Arial"/>
              </a:rPr>
              <a:t>HASTA – HEKİM İLİŞKİSİNE DAİR ZORLU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durum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ekim başarısız hisseder,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zaman ve enerji harcamıştır, bu enerjinin daha iyi yanıt verecek hastalara harcanabileceğini düşün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nın kronikliği hekimle kişisel bir zıtlaşma gibi algılan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kimler bu hastalar için hissettikleri öfkeyi bazen adlar takarak ifade ederler (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sterik, uyumsuz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b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hastaları kabul edebilen ve savunmalarını hekime yönelik şahsi saldırı olarak algılamayan hekimler bu hastaları daha iyi tolere ederl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emptom modifikasyonundan önce güvenli bir ilişki şartt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daha az hayal kırıklığı, öfke ve stres yaşan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ekimler bu tür hastaları değerlendirirken hastanın şikâyetinin gerçek ve geçerli olduğunu akılda tutmalıd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 hemen tanı koyup etiketlememeye özen göstermeli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emptom azımsanır, görmezden gelinirse, hastalar hekime güvenemeyecekleri sinyalini a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Arial"/>
              </a:rPr>
              <a:t>HASTA – HEKİM İLİŞKİSİNE DAİR ZORLU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rekirse tetkikler yapılmalı, ancak bir yerden sonra gerekli olmayan tetkikler yapılmamal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on olarak bu hastalara düzenli randevu verilmesi önem taş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KRONİK PELVİK AĞRI ile ilgili görsel sonuc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hastalar için bir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edaviden çok, ilişki önemlidi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zellikle hastay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lojik ve psikiyatrik tedavinin medikal tedavinin yerine değil ona ilave edilmesinin başarıyı arttırdığı ve hayat kalitesini arttıracağı ve acı çekmeyi azaltacağı bilgisi verilmeli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İKOLOJİK TEDAV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er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danışmanlı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dinamik psikoter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ravma terapi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Yoga ve meditasy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ilinçli farkındalık (mindfulness) temelli bilişsel ter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Nefes ve gevşeme egzersiz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ensendieck somatokognitif ted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ENSENDİECK SOMATOKOGNİTİF TEDAVİ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 hastalarında psikolojik tedaviler içind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fizyoterapi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l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terap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rasında bir yöntem olarak tarif edilebilecek olan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ensendieck somatokognitif tedav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yaklaşımı ile ağrıyı gidermeye çalışan araştırmacılar olumlu sonuçlar almışt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yöntemde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lara beden duruşu, nefes alıp, verme ve ağrıyı azaltmak için hareket etme biçimlerinin öğretilmesinin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ı sıra,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hastaların bedenleriyle ilgili farkındalıklarının artmasına yönelik bilişsel yaklaşım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kullanılmış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İKİYATRİK TEDAV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tidepresan ilaç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ksiyolitik ilaç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üşük doz antipsikotik ilaç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(adjuvan bir analjezik olar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TİDEPRESAN İLAÇ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astırılmış ve ifade edilmemiş derin öfkenin bilinçdışı olarak bedene yöneldiği bir hastalık ol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epresyonu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tedavisinde çeşitli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tidepresan ilaç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değişik dozlarda kullana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6–8 haftada terapötik etki görülmemişse farmakolojik ajanın değiştirilmesini gerek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edaviye cevap vermeyen hastaların %50’si aynı gruptan başka bir ilaca cevap ver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nın tedavisind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mitriptilin, sertralin, duloksetin, nortriptilin ve sitalopram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literatürde bahsi geçen antidepresanlar arasında yer almakta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ağrılı sendromların tedavisinde son yıllarda üzerinde durulan bir ajan, seçici serotonin-noradrenalin geri alım inhibitörü olan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ulokseti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ir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DULOXX® 30 mg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28 ve 56 kapsül, dozu günde iki kapsüldü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ntidespresanların uyku hali, sersemlik, ağız kuruluğu ve kabızlık, yorgunluk, diyare, baş ağrısı v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libido kayb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gibi yan etkileri ol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insel işlev bozukluğu ortaya çıktığında bazı ilaçlar doğrudan tedaviye eklenerek alınan cevaba göre dozu ve kullanım süresi ayarlanmak suretiyle antidot olarak kullanılırl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propi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(VELBUTRİ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spi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(BUSP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İPROHEPTADİ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İĞ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MANTADİN, METİLFENİDAT, Dekstroamfetamin, Yohimbin, Sildenafil, Neostigmin, Betanekol gib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PROPİ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bidoyu ve uyarılmayı arttırır ve orgazmı kolaylaştır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WELLBUTRIN XL 150 mg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Yavaş Salımlı Film Kaplı Tablet 1*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SPİR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bidoyu arttırır ve orgazmı kolaylaştır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İPROHEPTADİN (SİPRAKTİN ŞUR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rgazmı kolaylaştır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MANTADİ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rgazmı kolaylaştır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ntiviral ve antiparkinson etkisi var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ETİLFENİDAT (RİTALİ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insel uyarılmayı arttırır ve orgazmı kolaylaştır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masters-johnson-promo-51955756"/>
          <p:cNvPicPr/>
          <p:nvPr/>
        </p:nvPicPr>
        <p:blipFill>
          <a:blip r:embed="rId1"/>
          <a:srcRect l="5903" t="0" r="668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LADY PREL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dınlarda cinsel isteği arttıran bitkisel gıda takviyesi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çinde L-Arjinin HCL, L-sitrulin, Rosvita, Pycnogenol (Fransız sahil çamı kabuk extresi) var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ntidepresanların cinsel yan etkilerini azal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GİNKGO BİL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tkisel gıda takviyesi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ntidepres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özelliği vardır, depresyona iyi gelir, ruh halini iyileştirerek panik atak ve depresyonu azaltmaya yardım eder, bu sayede antidepresan kullanımı azaltıla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ntidepresanların cinsel yan etkilerini azal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ynı zamanda cinsel isteksizlik sorununun çözümüne destek ol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elleği güçlendirme ve bellek kaybını bir ölçüde hafifletebilme özelliği var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b60679d9-87e1-418e-b92b-7c6531f54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jineseksoloji-kongre-2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t-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ct-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f06fb9f-cec7-4e3b-98fb-064c618f37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JİNESEKSOLOJİ - www.jinesek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DINLARIN SEKS BİLİMİ”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olarak tanımladığımız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jineseksoloji,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dın ve erkek cinsel fonksiyonlarının benzerlikleri ve birbirlerini tamamlayan özellikler taşımaları nedeniy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şkın seks cinsel tedavi yaklaşımı”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nı 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ultidisipliner bir bakış açısı”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nı esas alar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dın olmadan erkek, erkek olmadan kadın cinselliği olmaz”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prensibini kullan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JİNESEKSOLOJİ - www.jinesek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rçekte jinekoloji ve jineseksoloji aynı anatomofizyolojik alanda işlev görmektedirler am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jineseksoloj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erap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danışmanlı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vlilik ve ilişki terapis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loji 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iyatriy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daha yakın bir konumda da olacak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n önemli cinsel terapi kuramcıları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irginia Johns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William Master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t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lindiği gibi William Masters bir jinekologd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JİNESEKSOLOJİ - www.jinesek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rçekte jinekoloji ve jineseksoloji aynı anatomofizyolojik alanda işlev görmektedirler am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jineseksoloj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erap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danışmanlı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vlilik ve ilişki terapis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loji 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iyatriy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daha yakın bir konumda da olacak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n önemli cinsel terapi kuramcıları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irginia Johns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William Master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t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lindiği gibi William Masters bir jinekologd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pelvik_bozulmas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cc0000"/>
                </a:solidFill>
                <a:latin typeface="Arial"/>
              </a:rPr>
              <a:t>KRONİK PELVİK AĞRIYA PSİKİYATRİK YAKLAŞ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Duygular”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“bedensel semptomlar”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arasındaki ilişki 1950’lerden bu yana bildirilmekte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Günümüzde 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Kronik Pelvik Ağrı (KPA)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ibi psikosomatik fenomenlerin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çocukluk ve yetişkinlik dönemine ait travmatik anıların bir tür tekrarı olduğu düşünülmekte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Arkaik travmatik algısal izlerin farklı kısa devrelerle, (1) beden üzerinden, (2) eylemlerle ve (3) psikotik olmayan kişide zihinde halusinatuar yaşantılarla tekrarladığı üzerinde durulmaktadı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Tıbbi nedenlere bağlanamayan beden yakınmaları (somatizasyon veya bedenselleştirme) bir duygu ya da yaşantının beden üzerinden ifadesi olarak ele alınır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u nedenle kadınların günlük hayatlarını ve genel anlamda kendilerini sağlıklı ve iyi hissetmelerini olumsuz yönde etkileyen kronik pelvik ağrı, “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BİYO-PSİKO-SOSYAL MODEL”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çerçevesinde anlaşılabil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Çünkü 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“ağrı gelişimi”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ile 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psikolojik ve psikiyatrik bulgular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ın neden birlikte olduğu tam olarak anlaşılamamıştır ancak bunun üzerine yapılabilecek en mantıklı açıklama ikisinin de ortak nörotransmitterlere ve ortak yollara sahip olmasıdı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cc0000"/>
                </a:solidFill>
                <a:latin typeface="Arial"/>
              </a:rPr>
              <a:t>KRONİK PELVİK AĞRIYA PSİKİYATRİK YAKLAŞ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ikisinin birlikteliği ile ilgili bir diğer kanıtta psikiyatrik amaçlı kullanılan ilaçların kronik pelvik ağrı tedavisinde işe yaraması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nın etiyolojisinin hala tam anlaşılamaması,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ayrıntılı cinsel öykü almanın, psikolojik ve psikiyatrik değerlendirmenin ihmal edilmes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e katkıda bulunan birçok muhtemel etken olması nedeniyle tedavi çoğunlukla tatmin edici değildir ve kısmi rahatlamayla sınırlı ka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ndan dolayı kronik pelvik ağrı şikâyeti olan kadınların başarılı bir tedavi için çok yönlü bir yaklaşıma ihtiyacı var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emptomatik rahatlama için tanı ve tedavid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ultidisipliner bir yaklaşım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n en etkilisi olduğu görül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Özellikle uzamış ve karmaşık vakaların jineseksolojik olarak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i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jinekolojik, ürolojik, psikiyatrik ve cinsel terapi açısından değerlendirilerek multidisiplinler bir yaklaşım içerisinde ele alınması gerekmektedi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KRONİK PELVİK AĞRI ile ilgili görsel sonuc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20:09:59Z</dcterms:created>
  <dc:creator>AMitchel</dc:creator>
  <dc:description/>
  <dc:language>en-US</dc:language>
  <cp:lastModifiedBy>L.K konferans</cp:lastModifiedBy>
  <cp:lastPrinted>2006-03-28T21:02:55Z</cp:lastPrinted>
  <dcterms:modified xsi:type="dcterms:W3CDTF">2019-10-20T06:48:01Z</dcterms:modified>
  <cp:revision>188</cp:revision>
  <dc:subject/>
  <dc:title>PowerPoint Presentation</dc:title>
</cp:coreProperties>
</file>